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710C-C5D5-4485-BBC9-F851F8811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F40A-DF00-438B-983C-188FE027B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5E51-D70C-486F-9654-BFF1C6A74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8860-56C3-45DD-AD18-338E7A5F9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1557-CDAB-4A31-AF6F-598601C99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C01A-4469-4882-B26B-7F788FD7E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AE83-D131-4AE2-BC04-1E1D1A08E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4D48-5D93-4F3A-84CE-2D69B7EBE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238E-7367-4C33-B2BC-DAB746B3B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B4D6-D309-44E7-8E93-F0C4CCB11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3A8D-BBCA-40D7-85B8-E54BB34C5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8E02-D257-49B7-A83A-35F93467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F6FC0-EB07-46BA-9CDA-778C249FDD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pe it work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3T14:31:00Z</dcterms:created>
  <dc:creator>workstation</dc:creator>
  <dc:description/>
  <dc:language>en-US</dc:language>
  <cp:lastModifiedBy>workstation</cp:lastModifiedBy>
  <dcterms:modified xsi:type="dcterms:W3CDTF">2010-08-03T14:31:20Z</dcterms:modified>
  <cp:revision>1</cp:revision>
  <dc:subject/>
  <dc:title>Test</dc:title>
</cp:coreProperties>
</file>